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873-7A20-46F2-966A-B16EA025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6F4-0415-4D47-BF6A-C9F072BF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D7D-B0D4-4C23-9D22-E64651E4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EB4-08E2-4D4F-B2C2-1442D1A7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85BB-79A3-4F18-83F2-01726E55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E3B2-FF03-466F-AAE2-928424E3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D5F5-CBAE-45B8-B7F4-13FEA6E0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29F4-2DDC-44A7-9073-A0511621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1B44-D019-4EBE-9F7F-32445FE7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8E8E-8CEC-48E3-8688-38EA0ACB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86FE-8698-49CB-898A-00063D6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760-4EDC-4EC8-A190-BB2655C0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0E61-32C1-4F8D-9217-6B614A04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272E-6A18-482A-AF75-522C980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FF3D-8C77-470A-ACDA-6B1E8CDC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548E-E00E-48AD-A2C8-B4C8D5EB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6197-FADC-4825-BD91-0F9C0549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4CC-3167-4CB1-A08E-6AA90B27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FF8-9326-42A4-82E4-DB205BC0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CAD-099C-4750-A580-C334CE9F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D9F-87EE-4B25-AB5B-A931E38B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026-0563-4D20-965C-F8FB7451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D89-E953-48D1-A990-4FC73B47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2C7-8199-48A4-9D7F-98345AE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6F99-137E-4960-8CA6-692EEA06D39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B236-F5E0-468E-83AB-A7AD830E291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ur Feeling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76160" y="2895120"/>
            <a:ext cx="5640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appy,    Sad,    Ang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1057320" cy="1114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1238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ow do you feel, and why…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At school your friend is playing with someone else, you want to play too, but they said, “We don’t won’t to play with you”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ow do you feel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956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00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Comic Sans MS"/>
              </a:rPr>
              <a:t>You went to Mc Donald’s Restaurant with your family.  You got a Happy Meal and a free toy. Your baby sister/brother lost their free toy.  So, your mom ask you to give your toy to your brother/sister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ow would you feel?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58672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0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</a:t>
            </a:r>
            <a:r>
              <a:rPr b="1" lang="en-US" sz="2400" spc="-1" strike="noStrike">
                <a:solidFill>
                  <a:srgbClr val="f7d47d"/>
                </a:solidFill>
                <a:latin typeface="Comic Sans MS"/>
              </a:rPr>
              <a:t>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Comic Sans MS"/>
              </a:rPr>
              <a:t>You were playing outside with your friends. It was a hot day. Your mom brought a pitcher of Kool-aid to share with your friends.</a:t>
            </a: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ow would you feel and wh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6252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Tell me how do you feel when hear this sound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 hear respons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2767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316400" y="2703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4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6000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Tell me how do you feel when hear this soun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 hear respons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3526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900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Comic Sans MS"/>
              </a:rPr>
              <a:t>Click on the icons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Tell me two things that made you angr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Tell me who or what made you feel sa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What did momma do to make you happy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334120" y="2286000"/>
            <a:ext cx="1238040" cy="914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172200" y="3962520"/>
            <a:ext cx="1057320" cy="838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486400" y="5638680"/>
            <a:ext cx="905040" cy="609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43434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33526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500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10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4000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0:09:51Z</dcterms:created>
  <dc:creator>Greenville Schools</dc:creator>
  <dc:description/>
  <dc:language>en-US</dc:language>
  <cp:lastModifiedBy>NA</cp:lastModifiedBy>
  <dcterms:modified xsi:type="dcterms:W3CDTF">2008-02-16T21:14:47Z</dcterms:modified>
  <cp:revision>7</cp:revision>
  <dc:subject/>
  <dc:title>Our Feelings</dc:title>
</cp:coreProperties>
</file>